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6120-C8AC-45A3-848E-24863D8D1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D7A0-9639-4FC0-9548-A80284CD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786E-86F7-4ABF-BAD8-8E344D389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06B0-9EE7-4EF7-83C2-375120CD1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9FCA-15DB-4599-AF76-417666ED9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78206-66D7-4A57-A518-BFCCD89D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BE8E-3446-4331-B863-182284D2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DA2C-29E3-4A32-A07C-ADF8B51B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1C35-5EF2-4484-B80A-E8B6C94F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8EBF-64C2-424C-8555-5FEA493C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3D864-D9C5-42B9-952A-9D8ECA00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493C-EC5D-490F-A577-753AE656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4783-A12B-4993-A265-93DDC2C4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0069-148F-4800-92F4-F01DF49C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12CA-6538-4FAF-A076-D19D75F3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34F4-0C46-4397-A745-676179DB8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5A2A-A368-4352-976B-FB4923FDC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6C05-3761-4423-B6A5-B8F6BCB4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4F8C-5DE5-4FCE-B30C-E009D660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5539-B649-481A-9C81-9D18C004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AD9F-1176-4ADE-B3B6-326CAF9E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5BC3-21F7-4125-9267-4A053DE2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B31F-0545-4717-9EC7-AD601A4D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921A-6F08-4439-A5E4-43D5049C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75CE-0A36-48CD-B34A-5EC3EFF629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1D7A-A567-4D57-92AB-13D6BB59542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Q8RuO2ekNGw&amp;feature=related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suvfg19o4s&amp;feature=related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30033"/>
                </a:solidFill>
                <a:latin typeface="Arial"/>
              </a:rPr>
              <a:t>5.1 Evolution of the </a:t>
            </a:r>
            <a:br>
              <a:rPr sz="5000"/>
            </a:br>
            <a:r>
              <a:rPr b="0" lang="en-US" sz="5000" spc="-1" strike="noStrike">
                <a:solidFill>
                  <a:srgbClr val="330033"/>
                </a:solidFill>
                <a:latin typeface="Arial"/>
              </a:rPr>
              <a:t>Atomic Model </a:t>
            </a:r>
            <a:endParaRPr b="0" lang="en-US" sz="5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8" name="Picture 22" descr="380914_f260"/>
          <p:cNvPicPr/>
          <p:nvPr/>
        </p:nvPicPr>
        <p:blipFill>
          <a:blip r:embed="rId1"/>
          <a:stretch/>
        </p:blipFill>
        <p:spPr>
          <a:xfrm>
            <a:off x="1752480" y="1828800"/>
            <a:ext cx="5791320" cy="4121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24"/>
          <p:cNvSpPr/>
          <p:nvPr/>
        </p:nvSpPr>
        <p:spPr>
          <a:xfrm>
            <a:off x="5105520" y="6095880"/>
            <a:ext cx="25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n Dalton – first to describe an at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5181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John Dal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toms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cannot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be divi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ll atoms of an element are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identical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toms of different elements are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different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toms are rearranged to form new substances in chemical reactions but they are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never created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destroyed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http://www.keetee.com/downloads/sphere.jpg"/>
          <p:cNvPicPr/>
          <p:nvPr/>
        </p:nvPicPr>
        <p:blipFill>
          <a:blip r:embed="rId1"/>
          <a:stretch/>
        </p:blipFill>
        <p:spPr>
          <a:xfrm>
            <a:off x="6629400" y="2286000"/>
            <a:ext cx="2158920" cy="228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510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J.J. Thomp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toms contain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negatively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charged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electron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in a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positively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charged sp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negatively charged electrons are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distributed evenly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throughout the at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http://nobelprize.org/educational_games/physics/quantised_world/structure-images/fig2b.gif"/>
          <p:cNvPicPr/>
          <p:nvPr/>
        </p:nvPicPr>
        <p:blipFill>
          <a:blip r:embed="rId1"/>
          <a:stretch/>
        </p:blipFill>
        <p:spPr>
          <a:xfrm>
            <a:off x="6400800" y="5335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Rosinenkuchen_nach__Thompson_077"/>
          <p:cNvPicPr/>
          <p:nvPr/>
        </p:nvPicPr>
        <p:blipFill>
          <a:blip r:embed="rId2"/>
          <a:stretch/>
        </p:blipFill>
        <p:spPr>
          <a:xfrm>
            <a:off x="5943600" y="34290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0033"/>
                </a:solidFill>
                <a:latin typeface="Times New Roman"/>
              </a:rPr>
              <a:t>Ernest Rutherford</a:t>
            </a:r>
            <a:r>
              <a:rPr b="1" lang="en-US" sz="4400" spc="-1" strike="noStrike">
                <a:solidFill>
                  <a:srgbClr val="330033"/>
                </a:solidFill>
                <a:latin typeface="Times New Roman"/>
              </a:rPr>
              <a:t>’s </a:t>
            </a:r>
            <a:br>
              <a:rPr sz="4400"/>
            </a:br>
            <a:r>
              <a:rPr b="1" lang="en-US" sz="4400" spc="-1" strike="noStrike">
                <a:solidFill>
                  <a:srgbClr val="330033"/>
                </a:solidFill>
                <a:latin typeface="Times New Roman"/>
              </a:rPr>
              <a:t>Gold Foil Experiment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4343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Ani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ll of the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charge in an atom is located in the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centre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of the atom, called the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nucleu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. The positively charged particles in the nucleus are called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proton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nucleus contains most of the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atom’s mas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, but takes up very little space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648320" y="1523880"/>
            <a:ext cx="415584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GoldFoilExpt"/>
          <p:cNvPicPr/>
          <p:nvPr/>
        </p:nvPicPr>
        <p:blipFill>
          <a:blip r:embed="rId2"/>
          <a:stretch/>
        </p:blipFill>
        <p:spPr>
          <a:xfrm>
            <a:off x="5334120" y="2438280"/>
            <a:ext cx="3809880" cy="26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446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nucleus is surrounded by a cloud of negatively charged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st of the atom is empty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http://faculty.virginia.edu/consciousness/images/rutherford%20model.gif"/>
          <p:cNvPicPr/>
          <p:nvPr/>
        </p:nvPicPr>
        <p:blipFill>
          <a:blip r:embed="rId1"/>
          <a:srcRect l="5393" t="5486" r="5393" b="5486"/>
          <a:stretch/>
        </p:blipFill>
        <p:spPr>
          <a:xfrm>
            <a:off x="5807160" y="2595600"/>
            <a:ext cx="2205000" cy="22906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0"/>
          <p:cNvSpPr/>
          <p:nvPr/>
        </p:nvSpPr>
        <p:spPr>
          <a:xfrm>
            <a:off x="838080" y="914400"/>
            <a:ext cx="3962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Ernest Rutherford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5037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James Chadw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nucleus of the atom contains protons and neutral particles called neu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mass of a neutron is about the same as the mass of a prot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 neutral atom has the same number of protons and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electrons are “circling” around the nucle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http://www.bbc.co.uk/manchester/content/images/2008/09/10/rutherford_atomic_model_180x200.gif"/>
          <p:cNvPicPr/>
          <p:nvPr/>
        </p:nvPicPr>
        <p:blipFill>
          <a:blip r:embed="rId1"/>
          <a:stretch/>
        </p:blipFill>
        <p:spPr>
          <a:xfrm>
            <a:off x="6261120" y="2360520"/>
            <a:ext cx="2008080" cy="236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3817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Niels Bo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electrons orbit the nucleus like planets orbit the S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ach electron ‘orbit’ has a defined amount of energy and so is called an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energy level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#°"/>
          <p:cNvPicPr/>
          <p:nvPr/>
        </p:nvPicPr>
        <p:blipFill>
          <a:blip r:embed="rId2"/>
          <a:stretch/>
        </p:blipFill>
        <p:spPr>
          <a:xfrm>
            <a:off x="5057640" y="1766880"/>
            <a:ext cx="3222720" cy="29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Niels Bohr (continu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lectrons cannot be between the energy levels, but they can “jump” from one level to an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en atoms release energy it is seen as 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ach energy level can hold a maximum number of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8:16:38Z</dcterms:created>
  <dc:creator>OCDSB User</dc:creator>
  <dc:description/>
  <dc:language>en-US</dc:language>
  <cp:lastModifiedBy>Katie</cp:lastModifiedBy>
  <dcterms:modified xsi:type="dcterms:W3CDTF">2014-10-01T19:36:21Z</dcterms:modified>
  <cp:revision>56</cp:revision>
  <dc:subject/>
  <dc:title>Atomic Theories and Subatomic Particles</dc:title>
</cp:coreProperties>
</file>